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03CD3-892E-4AE9-B444-0AE63DDE73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C6E6-D5EF-4338-ADF1-AF2AE7C3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605A4-9DCD-4621-9D15-24AFAB32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D7D31-852D-428B-9430-8E528213AE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91447-D974-4ABF-BC16-4DDC2B49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5BF91-94E5-4BAB-9244-F719A4AC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99175-13EB-4AAC-804B-5B766E77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984B-2186-4363-8C9E-A35F3ED38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3668F-E9EE-4CFA-93F3-4BC5FF27A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466C1-8D53-4397-8CF5-10F21D12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7C106-C0C6-45A9-A5EC-B14D7B7B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5FF16-12AF-4D79-ABF1-A1ADAE3E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462B-A92F-4FBB-B673-E691FD946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uel cell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what you know about fuel cells and how they work. Try to answer the questions in exercise 1 on th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listen for the answers to the questions in exercise 1 on th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your answers in your pair/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captions with the correct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7:38Z</dcterms:modified>
  <cp:revision>35</cp:revision>
  <dc:subject/>
  <dc:title>  </dc:title>
</cp:coreProperties>
</file>